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7CF-C2A2-48D8-BD3C-0489EBDA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F54-D8D3-45D4-844E-D30B5176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AD4-A991-48A9-9E0B-532818E2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ED0-D0CD-44E3-A49C-22F47988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5FA-8720-4111-BA29-81605A5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7B8-B9C6-4988-B9E5-D28345D7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645-ED66-4DE1-BACB-A9EE03B3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2F2-7487-4DED-95EA-3DB02DF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706-D1DE-45B2-ACAF-B781EA32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FD0-A676-4CB5-B291-46306A9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354-79F3-4E09-B122-8B69269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4D5-992F-4353-9DE0-59F5D5E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30F-3F3F-4ED8-AD31-0E4323B2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" y="2209680"/>
          <a:ext cx="2666880" cy="20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209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962520" y="2209680"/>
          <a:ext cx="2666880" cy="209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2209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8600" y="6781680"/>
          <a:ext cx="2666880" cy="20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781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62520" y="6781680"/>
          <a:ext cx="2666880" cy="209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6781680"/>
                    <a:ext cx="2666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46:24Z</dcterms:created>
  <dc:creator>Dina Winterton</dc:creator>
  <dc:description/>
  <dc:language>en-US</dc:language>
  <cp:lastModifiedBy>Dina Winterton</cp:lastModifiedBy>
  <dcterms:modified xsi:type="dcterms:W3CDTF">2009-04-13T18:36:19Z</dcterms:modified>
  <cp:revision>6</cp:revision>
  <dc:subject/>
  <dc:title>Slide 1</dc:title>
</cp:coreProperties>
</file>